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59EC-209D-43AA-A023-6895BF47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1D76-EDF6-48F5-B0E2-1D03CCA7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710-9008-4A24-BD27-27178068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F02F-C272-46F2-93EF-5D3CE280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257-F751-4986-9E00-4CE9E8FE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002-8D63-49C2-9CB6-D2AADDE4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2B1-8204-4D3C-A80E-0D3434BB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451C-4BFD-4A1F-A333-87C8A818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38F0-94B0-4D80-8976-1C35A303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2DE6-EF57-43E4-865E-D7195B3C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455-D840-48AF-BE9F-4751DCBA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3307-3219-48EA-825D-A5F4A7C6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971D-463E-4076-BB53-D21058BD0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The Apostles’ Cr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reator of heaven and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’s only Son, our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as conceiv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orn of the Virgin Mar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ffered under Pontius Pilat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crucified, di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descended to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e will come to jud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living and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oly catholic Churc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munion of saint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orgiveness of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resurrection of the bod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everlasting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5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1:50:20Z</dcterms:created>
  <dc:creator>Anon Anon</dc:creator>
  <dc:description/>
  <dc:language>en-US</dc:language>
  <cp:lastModifiedBy>Anon Anon</cp:lastModifiedBy>
  <dcterms:modified xsi:type="dcterms:W3CDTF">2005-08-16T04:23:30Z</dcterms:modified>
  <cp:revision>10</cp:revision>
  <dc:subject/>
  <dc:title>The Apostles’ Creed</dc:title>
</cp:coreProperties>
</file>